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gif" ContentType="image/gif"/>
  <Override PartName="/ppt/media/image5.wmf" ContentType="image/x-wmf"/>
  <Override PartName="/ppt/media/image3.wmf" ContentType="image/x-wmf"/>
  <Override PartName="/ppt/media/image4.wmf" ContentType="image/x-wmf"/>
  <Override PartName="/ppt/media/image6.gif" ContentType="image/gif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ules for Brainstorm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3352320" y="0"/>
            <a:ext cx="350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troduction to Engineering Design</a:t>
            </a:r>
            <a:r>
              <a:rPr b="0" lang="en-US" sz="1000" spc="-1" strike="noStrike" baseline="30000">
                <a:solidFill>
                  <a:srgbClr val="000000"/>
                </a:solidFill>
                <a:latin typeface="Arial"/>
              </a:rPr>
              <a:t>T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it 1 – Lesson 1.1 – Introduction to Design Pro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534160"/>
            <a:ext cx="29718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ject Lead The Way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pyright 200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D24C5-E3FF-410A-B42B-DC61C2FB10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6" descr=""/>
          <p:cNvPicPr/>
          <p:nvPr/>
        </p:nvPicPr>
        <p:blipFill>
          <a:blip r:embed="rId2"/>
          <a:stretch/>
        </p:blipFill>
        <p:spPr>
          <a:xfrm>
            <a:off x="6019920" y="8656560"/>
            <a:ext cx="474480" cy="487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ules for Brainstorm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12"/>
          <p:cNvSpPr/>
          <p:nvPr/>
        </p:nvSpPr>
        <p:spPr>
          <a:xfrm>
            <a:off x="3352680" y="0"/>
            <a:ext cx="350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troduction to Engineering Design</a:t>
            </a:r>
            <a:r>
              <a:rPr b="0" lang="en-US" sz="1000" spc="-1" strike="noStrike" baseline="30000">
                <a:solidFill>
                  <a:srgbClr val="000000"/>
                </a:solidFill>
                <a:latin typeface="Arial"/>
              </a:rPr>
              <a:t>T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it 1 – Lesson 1.1 – Introduction to Design Pro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13"/>
          <p:cNvSpPr/>
          <p:nvPr/>
        </p:nvSpPr>
        <p:spPr>
          <a:xfrm>
            <a:off x="0" y="8534520"/>
            <a:ext cx="297180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ject Lead The Way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pyright 200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1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B86FA-9BE0-44E7-835B-E878C83DCE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ules for Brainstorm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12"/>
          <p:cNvSpPr/>
          <p:nvPr/>
        </p:nvSpPr>
        <p:spPr>
          <a:xfrm>
            <a:off x="3352680" y="0"/>
            <a:ext cx="350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troduction to Engineering Design</a:t>
            </a:r>
            <a:r>
              <a:rPr b="0" lang="en-US" sz="1000" spc="-1" strike="noStrike" baseline="30000">
                <a:solidFill>
                  <a:srgbClr val="000000"/>
                </a:solidFill>
                <a:latin typeface="Arial"/>
              </a:rPr>
              <a:t>T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it 1 – Lesson 1.1 – Introduction to Design Pro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13"/>
          <p:cNvSpPr/>
          <p:nvPr/>
        </p:nvSpPr>
        <p:spPr>
          <a:xfrm>
            <a:off x="0" y="8534520"/>
            <a:ext cx="297180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ject Lead The Way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pyright 200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1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1DD39-DF63-4504-AECC-06BB5FEC25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 3: Remind students about the importance of recording all ideas on pap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ules for Brainstorm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12"/>
          <p:cNvSpPr/>
          <p:nvPr/>
        </p:nvSpPr>
        <p:spPr>
          <a:xfrm>
            <a:off x="3352680" y="0"/>
            <a:ext cx="350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troduction to Engineering Design</a:t>
            </a:r>
            <a:r>
              <a:rPr b="0" lang="en-US" sz="1000" spc="-1" strike="noStrike" baseline="30000">
                <a:solidFill>
                  <a:srgbClr val="000000"/>
                </a:solidFill>
                <a:latin typeface="Arial"/>
              </a:rPr>
              <a:t>T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it 1 – Lesson 1.1 – Introduction to Design Pro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13"/>
          <p:cNvSpPr/>
          <p:nvPr/>
        </p:nvSpPr>
        <p:spPr>
          <a:xfrm>
            <a:off x="0" y="8534520"/>
            <a:ext cx="297180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ject Lead The Way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pyright 200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1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E5799-9552-435E-8757-D3EE46CF19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ind students that all ideas are important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ules for Brainstorm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2"/>
          <p:cNvSpPr/>
          <p:nvPr/>
        </p:nvSpPr>
        <p:spPr>
          <a:xfrm>
            <a:off x="3352680" y="0"/>
            <a:ext cx="350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troduction to Engineering Design</a:t>
            </a:r>
            <a:r>
              <a:rPr b="0" lang="en-US" sz="1000" spc="-1" strike="noStrike" baseline="30000">
                <a:solidFill>
                  <a:srgbClr val="000000"/>
                </a:solidFill>
                <a:latin typeface="Arial"/>
              </a:rPr>
              <a:t>T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it 1 – Lesson 1.1 – Introduction to Design Pro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3"/>
          <p:cNvSpPr/>
          <p:nvPr/>
        </p:nvSpPr>
        <p:spPr>
          <a:xfrm>
            <a:off x="0" y="8534520"/>
            <a:ext cx="297180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ject Lead The Way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pyright 200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A4BE4-1948-4A25-99C3-AD728D0ED0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 5: Reiterate the importance about criticism.  Often times if this happens not everyone in the group will give their ideas to the rest of the grou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D8FF3-309C-4F98-92C1-EA3DB1D79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48E40-D865-4FC2-8209-2596BF77B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96394-7300-4487-BFB1-D8A09A808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B6F79-2201-46EE-9A70-157FF9449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A6DF3-A7F3-4421-8AE5-CBDD6494D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15086-3C22-4200-8CD2-17C1747D0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79E25-88FC-466E-B439-4CF41EA01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993F8-4F81-4869-BE26-56DC8DBC0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C2613-6DBA-424A-92C2-873AD76AE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6CD67-542D-4A14-94CE-04E8BF05A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8C0F6-078A-40F6-8563-509BE6D9C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8F347-5DAF-4D06-9E2B-427AF1350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0F98B-5592-4830-8A32-1B9A88DF09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71600" y="3200400"/>
            <a:ext cx="6570720" cy="72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Tahoma"/>
              </a:rPr>
              <a:t>Rules for Brainstorming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2000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04760" y="609480"/>
            <a:ext cx="54529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rainstorm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880" y="1904760"/>
            <a:ext cx="8229600" cy="274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process used to find a solution to a problem by collecting ideas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without regard for feasibilit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which occur from a group of people brought together for a specific purpo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11" descr="j0283214"/>
          <p:cNvPicPr/>
          <p:nvPr/>
        </p:nvPicPr>
        <p:blipFill>
          <a:blip r:embed="rId1"/>
          <a:stretch/>
        </p:blipFill>
        <p:spPr>
          <a:xfrm>
            <a:off x="3809880" y="3886200"/>
            <a:ext cx="2430720" cy="2590920"/>
          </a:xfrm>
          <a:prstGeom prst="rect">
            <a:avLst/>
          </a:prstGeom>
          <a:ln w="0">
            <a:noFill/>
          </a:ln>
        </p:spPr>
      </p:pic>
    </p:spTree>
  </p:cSld>
  <p:transition spd="med" advTm="12000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ules for Brainstorm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240" y="2361960"/>
            <a:ext cx="5181480" cy="323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e conversation at a ti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ay focus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courage wild ide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fer judg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ild on the ideas of oth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1" descr="j0299691"/>
          <p:cNvPicPr/>
          <p:nvPr/>
        </p:nvPicPr>
        <p:blipFill>
          <a:blip r:embed="rId1"/>
          <a:stretch/>
        </p:blipFill>
        <p:spPr>
          <a:xfrm>
            <a:off x="5410080" y="2606760"/>
            <a:ext cx="3200400" cy="2490840"/>
          </a:xfrm>
          <a:prstGeom prst="rect">
            <a:avLst/>
          </a:prstGeom>
          <a:ln w="0">
            <a:noFill/>
          </a:ln>
        </p:spPr>
      </p:pic>
    </p:spTree>
  </p:cSld>
  <p:transition spd="med" advTm="12000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600200" y="38052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One conversation at a tim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53337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sten to what others are say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eeps from duplicating ide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lows for everyone to particip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7" descr="j0251709"/>
          <p:cNvPicPr/>
          <p:nvPr/>
        </p:nvPicPr>
        <p:blipFill>
          <a:blip r:embed="rId1"/>
          <a:stretch/>
        </p:blipFill>
        <p:spPr>
          <a:xfrm>
            <a:off x="5943600" y="2057400"/>
            <a:ext cx="2935440" cy="3657600"/>
          </a:xfrm>
          <a:prstGeom prst="rect">
            <a:avLst/>
          </a:prstGeom>
          <a:ln w="0">
            <a:noFill/>
          </a:ln>
        </p:spPr>
      </p:pic>
    </p:spTree>
  </p:cSld>
  <p:transition spd="med" advTm="12000">
    <p:wipe dir="r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600200" y="38052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tay Focus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53337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eep on topi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y focused on the idea and agree on how to keep on top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 is easy to “stray” away from the “BIG IDEA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j0239127"/>
          <p:cNvPicPr/>
          <p:nvPr/>
        </p:nvPicPr>
        <p:blipFill>
          <a:blip r:embed="rId1"/>
          <a:stretch/>
        </p:blipFill>
        <p:spPr>
          <a:xfrm>
            <a:off x="6040440" y="1905120"/>
            <a:ext cx="2846520" cy="3429000"/>
          </a:xfrm>
          <a:prstGeom prst="rect">
            <a:avLst/>
          </a:prstGeom>
          <a:ln w="0">
            <a:noFill/>
          </a:ln>
        </p:spPr>
      </p:pic>
    </p:spTree>
  </p:cSld>
  <p:transition spd="med" advTm="12000">
    <p:wipe dir="u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Encourage wild idea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51814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utrageous, humorous, and seemingly unimportant ideas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mus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be recor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 is common for the most off-the-wall idea to be the one that is the solution to the proble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ky is the lim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7" descr="j0254413"/>
          <p:cNvPicPr/>
          <p:nvPr/>
        </p:nvPicPr>
        <p:blipFill>
          <a:blip r:embed="rId1"/>
          <a:stretch/>
        </p:blipFill>
        <p:spPr>
          <a:xfrm>
            <a:off x="5562720" y="2209680"/>
            <a:ext cx="3352680" cy="2816280"/>
          </a:xfrm>
          <a:prstGeom prst="rect">
            <a:avLst/>
          </a:prstGeom>
          <a:ln w="0">
            <a:noFill/>
          </a:ln>
        </p:spPr>
      </p:pic>
    </p:spTree>
  </p:cSld>
  <p:transition spd="med" advTm="12000">
    <p:strips dir="ld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Defer judgmen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04920" y="175248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eople automatically tend to evaluate each suggested idea - their own, as well as other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o criticis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o negative com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7" descr="j0299067"/>
          <p:cNvPicPr/>
          <p:nvPr/>
        </p:nvPicPr>
        <p:blipFill>
          <a:blip r:embed="rId1"/>
          <a:stretch/>
        </p:blipFill>
        <p:spPr>
          <a:xfrm>
            <a:off x="5943600" y="2438280"/>
            <a:ext cx="2928960" cy="3124440"/>
          </a:xfrm>
          <a:prstGeom prst="rect">
            <a:avLst/>
          </a:prstGeom>
          <a:ln w="0">
            <a:noFill/>
          </a:ln>
        </p:spPr>
      </p:pic>
    </p:spTree>
  </p:cSld>
  <p:transition spd="med" advTm="12000">
    <p:strips dir="rd"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69199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Build on the ideas of oth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4800600" cy="426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iling-on occurs when one member’s idea produces a similar idea or an enhanced id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l ideas should be recor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7" descr="j0295555"/>
          <p:cNvPicPr/>
          <p:nvPr/>
        </p:nvPicPr>
        <p:blipFill>
          <a:blip r:embed="rId1"/>
          <a:stretch/>
        </p:blipFill>
        <p:spPr>
          <a:xfrm>
            <a:off x="5334120" y="2438280"/>
            <a:ext cx="3448080" cy="3505320"/>
          </a:xfrm>
          <a:prstGeom prst="rect">
            <a:avLst/>
          </a:prstGeom>
          <a:ln w="0">
            <a:noFill/>
          </a:ln>
        </p:spPr>
      </p:pic>
    </p:spTree>
  </p:cSld>
  <p:transition spd="med" advTm="12000">
    <p:wedge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1T15:16:05Z</dcterms:created>
  <dc:creator/>
  <dc:description/>
  <cp:keywords>Brainstorming</cp:keywords>
  <dc:language>en-US</dc:language>
  <cp:lastModifiedBy>Bright</cp:lastModifiedBy>
  <dcterms:modified xsi:type="dcterms:W3CDTF">2013-08-22T11:52:56Z</dcterms:modified>
  <cp:revision>121</cp:revision>
  <dc:subject>Computer Science 1</dc:subject>
  <dc:title>Rules for Brainstorming</dc:title>
</cp:coreProperties>
</file>